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59284"/>
        <c:axId val="99306430"/>
      </c:barChart>
      <c:catAx>
        <c:axId val="83859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06430"/>
        <c:crosses val="autoZero"/>
        <c:auto val="1"/>
        <c:lblAlgn val="ctr"/>
        <c:lblOffset val="100"/>
        <c:noMultiLvlLbl val="0"/>
      </c:catAx>
      <c:valAx>
        <c:axId val="99306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59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272-2CB2-4D61-9A52-41F3BD2D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D6F-FC68-482A-9874-44018CD7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04B-3F95-42BA-A741-84368ACD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36E-3BD8-4A13-8A61-BE42F962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99A-7C5B-477C-BFAD-2F342FDC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FEC-49CD-4D67-B9EB-DBFDC0F0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BC4-DA2B-4A39-99D0-A8BDDCF8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133-0F78-4ABC-8499-320856A0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BC7-D6B8-444E-BA15-52F49042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170-9E81-47F2-B6C0-DF9DAB24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B93-1E71-418D-98B0-53399648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39A-E904-43DA-80EF-9587CA50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58C6A-A9E5-49EA-8CAC-19DF24C31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